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B52-610A-4769-B13A-D39297DF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E06-5169-4C61-B959-099330B1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242-037E-4685-9127-82DB0C18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2CB-34A6-4C26-9584-89F99D31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5E0-AFA4-4377-B4F0-397FB752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42D-48D5-45CC-829D-55C2432D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FB7-57EF-4627-AF6F-C70D8ECA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33B-150E-4015-9725-0CB3A79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4C6-6E2F-499F-857B-C93592F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61F-57BA-45A7-B927-C3DEDBB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80F-FC2D-48B3-8EC8-A4D7F6C1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D09-3F53-4472-8239-AF4904CB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4FB4-E127-4DFC-B6E7-6804604AD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5943600"/>
            <a:ext cx="6400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is she thinking?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9:06:12Z</dcterms:created>
  <dc:creator>Aberdeen Public Schools</dc:creator>
  <dc:description/>
  <dc:language>en-US</dc:language>
  <cp:lastModifiedBy>Aberdeen Public Schools</cp:lastModifiedBy>
  <dcterms:modified xsi:type="dcterms:W3CDTF">2010-05-24T19:10:46Z</dcterms:modified>
  <cp:revision>2</cp:revision>
  <dc:subject/>
  <dc:title>Slide 1</dc:title>
</cp:coreProperties>
</file>